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18.wmf" ContentType="image/x-wmf"/>
  <Override PartName="/ppt/media/CHIMES.WAV" ContentType="audio/x-wav"/>
  <Override PartName="/ppt/media/image13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</p:sldIdLst>
  <p:sldSz cx="9144000" cy="6858000"/>
  <p:notesSz cx="6858000" cy="9144000"/>
  <p:custShowLst>
    <p:custShow name="(1.1)" id="0">
      <p:sldLst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6461-57B7-4CFF-9FD6-EB0675F62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4F08-570F-431D-9CB3-9630AA504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5429-3294-4606-8EE7-E5B262F6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F71C-AF91-498C-BE80-79AE45C77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A770-85E2-4007-8BB2-8371624EA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50BA-5715-4118-B0F9-A769C9FD0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52B3-757E-4469-A849-A85DA2C6B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0C1-7564-412C-A4F0-5A5605A6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2EE3-FF0F-4291-8103-C37B8E396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A37-BE18-4416-8D28-2EDD83B4A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7B9D-4FCB-4D3E-B1E0-99045EA1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5AB9-516F-46D4-AF0D-841F8D96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4602-9D15-4421-90E5-54DA5C40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124D-6F64-4F6C-9A02-936780CC3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CE9D-7D6D-43BA-91C3-927D272B1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81A1-58D4-48E2-BF32-11C6D80F2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874F-FF13-4E47-AF02-A66EA10E7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801A-9E17-4E0A-9578-469CB9631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83B5-0BF7-45C2-858C-4F7E51B2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97B4-2AB6-44F8-9A6D-EAC3E4ED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5F96-A271-4087-B488-DF500E0A4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7185-C497-4B73-937A-0098C8784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F474-E319-49EB-B0B8-D098F8BB7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30EF-2802-4FB6-8ACB-65854B5B7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C11E-2C1A-4759-B1D0-816EC0B7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1DF-DEFA-4085-8CC0-FBB3C1033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910-ABBE-4368-ABAE-639F6F7A5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D803-EC4A-4F8C-BDF6-74B9887E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F00-8758-46B9-BC9C-427110AEC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B307-58E7-427B-AFD0-1BA8CA729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2967-D1DB-4B11-85A6-35DEBBCE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5C16-569E-4C55-A3A2-1CBC02297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0747-9C47-4326-8BB6-A9B5C33DD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2927-1B2A-49A1-AD9A-8BBFDCB8F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A8DB-B051-4825-91B8-C782BC14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4E20-E64C-494E-B96F-59F3FED6E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8784-82BF-48DD-A1CC-DDBDCB0B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F841-C74B-44BF-8058-597A8834A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4965-2FBA-48F2-9ACA-CD88A877C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7CFF-B08B-4DED-87C0-00829EF4E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88CE-2427-4A23-8AB4-1AF46411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DA7F-397A-41CF-889B-07007C647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CAF3-45F5-4954-B92E-7C34317A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5E58-058F-4C73-90F7-F58208A7B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62F2-2C23-4C4F-9767-1DE437F7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226-B9C1-4CF2-A5C7-663D0B5E4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80D9-254C-40E1-A0C8-333F1D20C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7F0F-0AF5-4AD3-84A3-4428EBC48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ED87-3B28-44CA-8119-8999B908B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4732-BAF5-4A4B-8F5A-EF0DE6D0F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2AB2-26AB-4A17-90C7-B121FA39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024-D464-48C1-B3E0-90C799440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796C-5D9A-4C2B-AC2C-A0A6BF3C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C9DB-20C6-4F25-AF8A-275D054B0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26D4-8181-4ED7-9FEA-A08605319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C639-F087-4148-9D6F-136E4DA0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997C-AA46-4CEE-A834-A1EEDD136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D7F1-D763-44A6-B0C5-17DDFCDF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0C0E-3459-4E1F-A3FC-5FBEC860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F5B-2E28-47ED-BB7E-797826DA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0F49-5766-4F03-8AD0-86C9AB2C9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344E-EEAA-4CB6-A00D-32B194807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1D3B-0047-4651-B382-4D5F8BBB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2D55-66E4-41DF-A242-1EF9D9F37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C438-ED0A-472E-8F09-4C8674007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756B-2ED3-4BC3-BACB-9E7A9839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5F6F-E200-44B7-B674-B94E48DC2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C659-1C91-440A-9B32-C2D72E518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BA9-D05A-4736-BEB6-81BE34FD5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7AF4-9F12-4077-B00A-2F5914137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764B-2F42-45C1-B64B-8DDCB532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7B10-4347-4AAC-8145-C0361EAE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46E0-8DAD-4024-A763-57D9A7598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C474-4FFC-467F-AC29-201F5424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14EF-7C75-4494-9962-619427C14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F5D0-588B-42E0-8154-C75A6F99D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D5EE-36BE-4839-ABFD-A7C2C689A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4678-278C-44D0-A917-7C361D8F7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A51B-BADA-4DDC-A878-D2AD1154C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A8C2-D4C1-4A72-B57C-D8F09EBB6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A621-FEEB-45A2-AC84-0124607CD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5DA-7472-4B02-80FE-F96617C67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BBB3-61F9-4A5C-93E1-34C82E19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9CF3-0EA7-4D9D-973F-64824664C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62B1-AF3C-4FA9-AA8E-512DD7600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2205-0510-4C9F-B92F-45CC35045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D973-7F00-4887-B10A-9AD5855E3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69B-D8F4-4663-864D-3F9E111E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4C1-3AE4-44B0-A294-86E65858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37B-21C6-44F3-9F05-08DAC46B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66E-10E6-41A9-B813-E0B52809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F751-08D3-40B0-B15B-123EAFAB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69FB-0C46-4C23-9FFF-3951BD22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D140-FA5B-458F-A78F-4ED3C15B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987F-F77B-4785-A37B-25D6635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C6CF-2DAB-4E0D-9824-C42F72E5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F226-49D9-4C67-B072-B948039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4D9-B8B1-4D64-B734-22B219B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3C7-6631-4E56-A203-507C8EBC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4A56-41C9-4905-B099-7B4EA03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E624-1548-430E-8597-30EC8CB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DA0-FD67-4373-9AE4-69547B61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BA81-BAC9-44A3-9D3B-49685428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5C00-F91A-4506-91E1-BDF8DEDB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9701-76B0-4A09-9D53-31A86EF8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2F56-D7B5-49ED-8D9C-C2499DC3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B216-61C6-473A-A9EC-73EA9155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0575-3E77-4F89-B53F-4A1D0C7D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87F8-B1D1-46E5-891F-837851BC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AF2-6A6F-43C1-AB91-D9D72D09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1334-F048-4781-B643-1DC0373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52D9-25B4-4C98-8E9D-39B88A0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9C34-7A3C-4A2C-8CB5-69B9A26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CFFA-9D7B-461D-95BF-2265DA61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605A-67E6-4B4C-9C26-68AC01EF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8A72-866F-4B3B-847D-448C2A1E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207A-2886-4646-8D5F-7CF4C85C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B76-1A9D-4337-B946-208445CF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B72-ECE9-44F1-8A5E-C2EE505C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DDD-11B4-4689-B093-B14C2ADE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19E-A417-4F46-AC16-A4FADF3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960-A31F-4BF3-B152-5BC29BC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560-FAC6-414B-86B2-5F5CCDF6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FD9-9325-4C0A-919F-0748693EFD53}" type="slidenum"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80CA-543C-4CB4-87A9-02E95BA56D6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73e8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FB09-4795-427A-931E-C7D013A809F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9.xml"/><Relationship Id="rId8" Type="http://schemas.openxmlformats.org/officeDocument/2006/relationships/slide" Target="slide39.xml"/><Relationship Id="rId9" Type="http://schemas.openxmlformats.org/officeDocument/2006/relationships/slide" Target="slide59.xml"/><Relationship Id="rId10" Type="http://schemas.openxmlformats.org/officeDocument/2006/relationships/slide" Target="slide59.xml"/><Relationship Id="rId11" Type="http://schemas.openxmlformats.org/officeDocument/2006/relationships/slide" Target="slide63.xml"/><Relationship Id="rId12" Type="http://schemas.openxmlformats.org/officeDocument/2006/relationships/slide" Target="slide63.xml"/><Relationship Id="rId13" Type="http://schemas.openxmlformats.org/officeDocument/2006/relationships/slide" Target="slide55.xml"/><Relationship Id="rId14" Type="http://schemas.openxmlformats.org/officeDocument/2006/relationships/slide" Target="slide55.xml"/><Relationship Id="rId15" Type="http://schemas.openxmlformats.org/officeDocument/2006/relationships/slide" Target="slide71.xml"/><Relationship Id="rId16" Type="http://schemas.openxmlformats.org/officeDocument/2006/relationships/slide" Target="slide71.xml"/><Relationship Id="rId17" Type="http://schemas.openxmlformats.org/officeDocument/2006/relationships/slide" Target="slide11.xml"/><Relationship Id="rId18" Type="http://schemas.openxmlformats.org/officeDocument/2006/relationships/slide" Target="slide43.xml"/><Relationship Id="rId19" Type="http://schemas.openxmlformats.org/officeDocument/2006/relationships/slide" Target="slide43.xml"/><Relationship Id="rId20" Type="http://schemas.openxmlformats.org/officeDocument/2006/relationships/slide" Target="slide47.xml"/><Relationship Id="rId21" Type="http://schemas.openxmlformats.org/officeDocument/2006/relationships/slide" Target="slide47.xml"/><Relationship Id="rId22" Type="http://schemas.openxmlformats.org/officeDocument/2006/relationships/slide" Target="slide51.xml"/><Relationship Id="rId23" Type="http://schemas.openxmlformats.org/officeDocument/2006/relationships/slide" Target="slide51.xml"/><Relationship Id="rId24" Type="http://schemas.openxmlformats.org/officeDocument/2006/relationships/slide" Target="slide35.xml"/><Relationship Id="rId25" Type="http://schemas.openxmlformats.org/officeDocument/2006/relationships/slide" Target="slide35.xml"/><Relationship Id="rId26" Type="http://schemas.openxmlformats.org/officeDocument/2006/relationships/slide" Target="slide67.xml"/><Relationship Id="rId27" Type="http://schemas.openxmlformats.org/officeDocument/2006/relationships/slide" Target="slide67.xml"/><Relationship Id="rId28" Type="http://schemas.openxmlformats.org/officeDocument/2006/relationships/slide" Target="slide31.xml"/><Relationship Id="rId29" Type="http://schemas.openxmlformats.org/officeDocument/2006/relationships/slide" Target="slide27.xml"/><Relationship Id="rId30" Type="http://schemas.openxmlformats.org/officeDocument/2006/relationships/slide" Target="slide23.xml"/><Relationship Id="rId31" Type="http://schemas.openxmlformats.org/officeDocument/2006/relationships/slide" Target="slide23.xml"/><Relationship Id="rId32" Type="http://schemas.openxmlformats.org/officeDocument/2006/relationships/slide" Target="slide75.xml"/><Relationship Id="rId33" Type="http://schemas.openxmlformats.org/officeDocument/2006/relationships/slide" Target="slide75.xml"/><Relationship Id="rId34" Type="http://schemas.openxmlformats.org/officeDocument/2006/relationships/slide" Target="slide79.xml"/><Relationship Id="rId35" Type="http://schemas.openxmlformats.org/officeDocument/2006/relationships/slide" Target="slide79.xml"/><Relationship Id="rId36" Type="http://schemas.openxmlformats.org/officeDocument/2006/relationships/slide" Target="slide83.xml"/><Relationship Id="rId37" Type="http://schemas.openxmlformats.org/officeDocument/2006/relationships/slide" Target="slide83.xml"/><Relationship Id="rId38" Type="http://schemas.openxmlformats.org/officeDocument/2006/relationships/slide" Target="slide87.xml"/><Relationship Id="rId39" Type="http://schemas.openxmlformats.org/officeDocument/2006/relationships/slide" Target="slide87.xml"/><Relationship Id="rId40" Type="http://schemas.openxmlformats.org/officeDocument/2006/relationships/slide" Target="slide11.xml"/><Relationship Id="rId41" Type="http://schemas.openxmlformats.org/officeDocument/2006/relationships/slide" Target="slide11.xml"/><Relationship Id="rId42" Type="http://schemas.openxmlformats.org/officeDocument/2006/relationships/slide" Target=""/><Relationship Id="rId43" Type="http://schemas.openxmlformats.org/officeDocument/2006/relationships/image" Target="../media/image18.wmf"/><Relationship Id="rId44" Type="http://schemas.openxmlformats.org/officeDocument/2006/relationships/image" Target="../media/image22.wmf"/><Relationship Id="rId45" Type="http://schemas.openxmlformats.org/officeDocument/2006/relationships/image" Target="../media/image22.wmf"/><Relationship Id="rId46" Type="http://schemas.openxmlformats.org/officeDocument/2006/relationships/image" Target="../media/image22.wmf"/><Relationship Id="rId47" Type="http://schemas.openxmlformats.org/officeDocument/2006/relationships/image" Target="../media/image22.wmf"/><Relationship Id="rId48" Type="http://schemas.openxmlformats.org/officeDocument/2006/relationships/slide" Target="slide91.xml"/><Relationship Id="rId49" Type="http://schemas.openxmlformats.org/officeDocument/2006/relationships/image" Target="../media/image23.wmf"/><Relationship Id="rId50" Type="http://schemas.openxmlformats.org/officeDocument/2006/relationships/slide" Target="slide91.xml"/><Relationship Id="rId51" Type="http://schemas.openxmlformats.org/officeDocument/2006/relationships/image" Target="../media/image20.png"/><Relationship Id="rId52" Type="http://schemas.openxmlformats.org/officeDocument/2006/relationships/slideLayout" Target="../slideLayouts/slideLayout1.xml"/><Relationship Id="rId5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image" Target="../media/image24.gif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16.xml"/><Relationship Id="rId5" Type="http://schemas.openxmlformats.org/officeDocument/2006/relationships/image" Target="../media/image24.gif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20.xml"/><Relationship Id="rId5" Type="http://schemas.openxmlformats.org/officeDocument/2006/relationships/image" Target="../media/image24.gif"/><Relationship Id="rId6" Type="http://schemas.openxmlformats.org/officeDocument/2006/relationships/slide" Target="slide22.xml"/><Relationship Id="rId7" Type="http://schemas.openxmlformats.org/officeDocument/2006/relationships/slide" Target="slide21.xm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24.xml"/><Relationship Id="rId5" Type="http://schemas.openxmlformats.org/officeDocument/2006/relationships/image" Target="../media/image24.gif"/><Relationship Id="rId6" Type="http://schemas.openxmlformats.org/officeDocument/2006/relationships/slide" Target="slide26.xml"/><Relationship Id="rId7" Type="http://schemas.openxmlformats.org/officeDocument/2006/relationships/slide" Target="slide2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28.xml"/><Relationship Id="rId5" Type="http://schemas.openxmlformats.org/officeDocument/2006/relationships/image" Target="../media/image24.gif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32.xml"/><Relationship Id="rId5" Type="http://schemas.openxmlformats.org/officeDocument/2006/relationships/image" Target="../media/image24.gif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36.xml"/><Relationship Id="rId5" Type="http://schemas.openxmlformats.org/officeDocument/2006/relationships/image" Target="../media/image24.gif"/><Relationship Id="rId6" Type="http://schemas.openxmlformats.org/officeDocument/2006/relationships/slide" Target="slide37.xml"/><Relationship Id="rId7" Type="http://schemas.openxmlformats.org/officeDocument/2006/relationships/slide" Target="slide38.xml"/><Relationship Id="rId8" Type="http://schemas.openxmlformats.org/officeDocument/2006/relationships/slide" Target="slide38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40.xml"/><Relationship Id="rId5" Type="http://schemas.openxmlformats.org/officeDocument/2006/relationships/image" Target="../media/image24.gif"/><Relationship Id="rId6" Type="http://schemas.openxmlformats.org/officeDocument/2006/relationships/slide" Target="slide41.xml"/><Relationship Id="rId7" Type="http://schemas.openxmlformats.org/officeDocument/2006/relationships/slide" Target="slide4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44.xml"/><Relationship Id="rId5" Type="http://schemas.openxmlformats.org/officeDocument/2006/relationships/image" Target="../media/image24.gif"/><Relationship Id="rId6" Type="http://schemas.openxmlformats.org/officeDocument/2006/relationships/slide" Target="slide46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48.xml"/><Relationship Id="rId5" Type="http://schemas.openxmlformats.org/officeDocument/2006/relationships/image" Target="../media/image24.gif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49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4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52.xml"/><Relationship Id="rId5" Type="http://schemas.openxmlformats.org/officeDocument/2006/relationships/image" Target="../media/image24.gif"/><Relationship Id="rId6" Type="http://schemas.openxmlformats.org/officeDocument/2006/relationships/slide" Target="slide53.xml"/><Relationship Id="rId7" Type="http://schemas.openxmlformats.org/officeDocument/2006/relationships/slide" Target="slide54.xml"/><Relationship Id="rId8" Type="http://schemas.openxmlformats.org/officeDocument/2006/relationships/slide" Target="slide5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56.xml"/><Relationship Id="rId5" Type="http://schemas.openxmlformats.org/officeDocument/2006/relationships/image" Target="../media/image24.gif"/><Relationship Id="rId6" Type="http://schemas.openxmlformats.org/officeDocument/2006/relationships/slide" Target="slide57.xml"/><Relationship Id="rId7" Type="http://schemas.openxmlformats.org/officeDocument/2006/relationships/slide" Target="slide58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60.xml"/><Relationship Id="rId5" Type="http://schemas.openxmlformats.org/officeDocument/2006/relationships/image" Target="../media/image24.gif"/><Relationship Id="rId6" Type="http://schemas.openxmlformats.org/officeDocument/2006/relationships/slide" Target="slide62.xml"/><Relationship Id="rId7" Type="http://schemas.openxmlformats.org/officeDocument/2006/relationships/slide" Target="slide61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64.xml"/><Relationship Id="rId5" Type="http://schemas.openxmlformats.org/officeDocument/2006/relationships/image" Target="../media/image24.gif"/><Relationship Id="rId6" Type="http://schemas.openxmlformats.org/officeDocument/2006/relationships/slide" Target="slide66.xml"/><Relationship Id="rId7" Type="http://schemas.openxmlformats.org/officeDocument/2006/relationships/slide" Target="slide66.xml"/><Relationship Id="rId8" Type="http://schemas.openxmlformats.org/officeDocument/2006/relationships/slide" Target="slide65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63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68.xml"/><Relationship Id="rId5" Type="http://schemas.openxmlformats.org/officeDocument/2006/relationships/image" Target="../media/image24.gif"/><Relationship Id="rId6" Type="http://schemas.openxmlformats.org/officeDocument/2006/relationships/slide" Target="slide69.xml"/><Relationship Id="rId7" Type="http://schemas.openxmlformats.org/officeDocument/2006/relationships/slide" Target="slide7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72.xml"/><Relationship Id="rId5" Type="http://schemas.openxmlformats.org/officeDocument/2006/relationships/image" Target="../media/image24.gif"/><Relationship Id="rId6" Type="http://schemas.openxmlformats.org/officeDocument/2006/relationships/slide" Target="slide74.xml"/><Relationship Id="rId7" Type="http://schemas.openxmlformats.org/officeDocument/2006/relationships/slide" Target="slide7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" Target="slide7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slide" Target="slide76.xml"/><Relationship Id="rId5" Type="http://schemas.openxmlformats.org/officeDocument/2006/relationships/image" Target="../media/image24.gif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image" Target="../media/image2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"/><Relationship Id="rId3" Type="http://schemas.openxmlformats.org/officeDocument/2006/relationships/image" Target="../media/image18.wmf"/><Relationship Id="rId4" Type="http://schemas.openxmlformats.org/officeDocument/2006/relationships/slide" Target=""/><Relationship Id="rId5" Type="http://schemas.openxmlformats.org/officeDocument/2006/relationships/image" Target="../media/image19.png"/><Relationship Id="rId6" Type="http://schemas.openxmlformats.org/officeDocument/2006/relationships/slide" Target="slide3.xml"/><Relationship Id="rId7" Type="http://schemas.openxmlformats.org/officeDocument/2006/relationships/slide" Target=""/><Relationship Id="rId8" Type="http://schemas.openxmlformats.org/officeDocument/2006/relationships/image" Target="../media/image3.png"/><Relationship Id="rId9" Type="http://schemas.openxmlformats.org/officeDocument/2006/relationships/slide" Target="slide10.xm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reporting%20for%20duty.wav" TargetMode="External"/><Relationship Id="rId5" Type="http://schemas.openxmlformats.org/officeDocument/2006/relationships/image" Target="../media/image18.wmf"/><Relationship Id="rId6" Type="http://schemas.openxmlformats.org/officeDocument/2006/relationships/slide" Target="slide10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8.wmf"/><Relationship Id="rId3" Type="http://schemas.openxmlformats.org/officeDocument/2006/relationships/image" Target="../media/image23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wm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73e87"/>
                </a:solidFill>
                <a:uFillTx/>
                <a:latin typeface="Arial Black"/>
              </a:rPr>
              <a:t>DO NOW!</a:t>
            </a:r>
            <a:endParaRPr b="0" lang="en-US" sz="35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456840"/>
            <a:ext cx="891540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Despite the complaints from his girlfriend Gloria, Frank continues to wear his old, dirty, smelly sneakers because __________ the most comfortable shoes that he owns.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c3300"/>
                </a:solidFill>
                <a:latin typeface="Arial"/>
              </a:rPr>
              <a:t>Dallas and Kelly crammed until 4 a.m. for their final exam in accounting; __________ hoping for As on the test to bump their wretched averages up to Cs.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9933"/>
                </a:solidFill>
                <a:latin typeface="Arial"/>
              </a:rPr>
              <a:t>I'm starving! Are __________ any more leftover honey-roasted grasshoppers in the fridge?</a:t>
            </a:r>
            <a:br>
              <a:rPr sz="2500"/>
            </a:br>
            <a:r>
              <a:rPr b="1" i="1" lang="en-US" sz="2500" spc="-1" strike="noStrike">
                <a:solidFill>
                  <a:srgbClr val="339933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7030a0"/>
                </a:solidFill>
                <a:latin typeface="Arial"/>
              </a:rPr>
              <a:t>Paulette and Judi tried to eat the cafeteria hamburgers, but the brown lettuce, cold meat, and stale buns were making __________ stomachs queas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24"/>
              </a:spcBef>
              <a:spcAft>
                <a:spcPts val="601"/>
              </a:spcAft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rId1" action="ppaction://hlinksldjump"/>
          </p:cNvPr>
          <p:cNvSpPr/>
          <p:nvPr/>
        </p:nvSpPr>
        <p:spPr>
          <a:xfrm>
            <a:off x="28954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>
            <a:hlinkClick r:id="rId3" action="ppaction://hlinksldjump"/>
          </p:cNvPr>
          <p:cNvSpPr/>
          <p:nvPr/>
        </p:nvSpPr>
        <p:spPr>
          <a:xfrm>
            <a:off x="5105520" y="12193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>
            <a:hlinkClick r:id="rId5" action="ppaction://hlinksldjump"/>
          </p:cNvPr>
          <p:cNvSpPr/>
          <p:nvPr/>
        </p:nvSpPr>
        <p:spPr>
          <a:xfrm>
            <a:off x="28954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2">
            <a:hlinkClick r:id="rId9" action="ppaction://hlinksldjump"/>
          </p:cNvPr>
          <p:cNvSpPr/>
          <p:nvPr/>
        </p:nvSpPr>
        <p:spPr>
          <a:xfrm>
            <a:off x="7621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4">
            <a:hlinkClick r:id="rId11" action="ppaction://hlinksldjump"/>
          </p:cNvPr>
          <p:cNvSpPr/>
          <p:nvPr/>
        </p:nvSpPr>
        <p:spPr>
          <a:xfrm>
            <a:off x="28954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7">
            <a:hlinkClick r:id="rId17" action="ppaction://hlinksldjump"/>
          </p:cNvPr>
          <p:cNvSpPr/>
          <p:nvPr/>
        </p:nvSpPr>
        <p:spPr>
          <a:xfrm>
            <a:off x="7621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8">
            <a:hlinkClick r:id="rId18" action="ppaction://hlinksldjump"/>
          </p:cNvPr>
          <p:cNvSpPr/>
          <p:nvPr/>
        </p:nvSpPr>
        <p:spPr>
          <a:xfrm>
            <a:off x="7621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0">
            <a:hlinkClick r:id="rId20" action="ppaction://hlinksldjump"/>
          </p:cNvPr>
          <p:cNvSpPr/>
          <p:nvPr/>
        </p:nvSpPr>
        <p:spPr>
          <a:xfrm>
            <a:off x="28954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1">
            <a:hlinkClick r:id="rId22" action="ppaction://hlinksldjump"/>
          </p:cNvPr>
          <p:cNvSpPr/>
          <p:nvPr/>
        </p:nvSpPr>
        <p:spPr>
          <a:xfrm>
            <a:off x="51055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2">
            <a:hlinkClick r:id="rId24" action="ppaction://hlinksldjump"/>
          </p:cNvPr>
          <p:cNvSpPr/>
          <p:nvPr/>
        </p:nvSpPr>
        <p:spPr>
          <a:xfrm>
            <a:off x="51055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3">
            <a:hlinkClick r:id="rId26" action="ppaction://hlinksldjump"/>
          </p:cNvPr>
          <p:cNvSpPr/>
          <p:nvPr/>
        </p:nvSpPr>
        <p:spPr>
          <a:xfrm>
            <a:off x="51055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35">
            <a:hlinkClick r:id="rId28" action="ppaction://hlinksldjump"/>
          </p:cNvPr>
          <p:cNvSpPr/>
          <p:nvPr/>
        </p:nvSpPr>
        <p:spPr>
          <a:xfrm>
            <a:off x="7621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36">
            <a:hlinkClick r:id="rId30" action="ppaction://hlinksldjump"/>
          </p:cNvPr>
          <p:cNvSpPr/>
          <p:nvPr/>
        </p:nvSpPr>
        <p:spPr>
          <a:xfrm>
            <a:off x="7162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37">
            <a:hlinkClick r:id="rId32" action="ppaction://hlinksldjump"/>
          </p:cNvPr>
          <p:cNvSpPr/>
          <p:nvPr/>
        </p:nvSpPr>
        <p:spPr>
          <a:xfrm>
            <a:off x="7621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8">
            <a:hlinkClick r:id="rId34" action="ppaction://hlinksldjump"/>
          </p:cNvPr>
          <p:cNvSpPr/>
          <p:nvPr/>
        </p:nvSpPr>
        <p:spPr>
          <a:xfrm>
            <a:off x="28954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9">
            <a:hlinkClick r:id="rId36" action="ppaction://hlinksldjump"/>
          </p:cNvPr>
          <p:cNvSpPr/>
          <p:nvPr/>
        </p:nvSpPr>
        <p:spPr>
          <a:xfrm>
            <a:off x="51055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c3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6">
            <a:hlinkClick r:id="rId40" action="ppaction://hlinksldjump"/>
          </p:cNvPr>
          <p:cNvSpPr/>
          <p:nvPr/>
        </p:nvSpPr>
        <p:spPr>
          <a:xfrm>
            <a:off x="1066680" y="1295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9" descr="School Teacher01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0" y="4343400"/>
            <a:ext cx="1295280" cy="2514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0" descr="Pencil"/>
          <p:cNvPicPr/>
          <p:nvPr/>
        </p:nvPicPr>
        <p:blipFill>
          <a:blip r:embed="rId44"/>
          <a:stretch/>
        </p:blipFill>
        <p:spPr>
          <a:xfrm>
            <a:off x="609480" y="380880"/>
            <a:ext cx="1676520" cy="58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1" descr="Pencil"/>
          <p:cNvPicPr/>
          <p:nvPr/>
        </p:nvPicPr>
        <p:blipFill>
          <a:blip r:embed="rId45"/>
          <a:stretch/>
        </p:blipFill>
        <p:spPr>
          <a:xfrm>
            <a:off x="2743200" y="380880"/>
            <a:ext cx="1676520" cy="582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2" descr="Pencil"/>
          <p:cNvPicPr/>
          <p:nvPr/>
        </p:nvPicPr>
        <p:blipFill>
          <a:blip r:embed="rId46"/>
          <a:stretch/>
        </p:blipFill>
        <p:spPr>
          <a:xfrm>
            <a:off x="4876920" y="380880"/>
            <a:ext cx="1676160" cy="582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3" descr="Pencil"/>
          <p:cNvPicPr/>
          <p:nvPr/>
        </p:nvPicPr>
        <p:blipFill>
          <a:blip r:embed="rId47"/>
          <a:stretch/>
        </p:blipFill>
        <p:spPr>
          <a:xfrm>
            <a:off x="7010280" y="380880"/>
            <a:ext cx="1676520" cy="582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4"/>
          <p:cNvSpPr/>
          <p:nvPr/>
        </p:nvSpPr>
        <p:spPr>
          <a:xfrm>
            <a:off x="914400" y="45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wingSet BB"/>
              </a:rPr>
              <a:t>Category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7"/>
          <p:cNvSpPr/>
          <p:nvPr/>
        </p:nvSpPr>
        <p:spPr>
          <a:xfrm>
            <a:off x="3048120" y="45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wingSet BB"/>
              </a:rPr>
              <a:t>Category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5181480" y="4572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wingSet BB"/>
              </a:rPr>
              <a:t>Category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9"/>
          <p:cNvSpPr/>
          <p:nvPr/>
        </p:nvSpPr>
        <p:spPr>
          <a:xfrm>
            <a:off x="7315200" y="457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wingSet BB"/>
              </a:rPr>
              <a:t>Category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60" descr="Apple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8305920" y="6072120"/>
            <a:ext cx="838080" cy="7858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1"/>
          <p:cNvSpPr/>
          <p:nvPr/>
        </p:nvSpPr>
        <p:spPr>
          <a:xfrm>
            <a:off x="8077320" y="6248520"/>
            <a:ext cx="10666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wingSet BB"/>
              </a:rPr>
              <a:t>  </a:t>
            </a:r>
            <a:r>
              <a:rPr b="0" lang="en-US" sz="3400" spc="-1" strike="noStrike" u="sng">
                <a:solidFill>
                  <a:srgbClr val="0080ff"/>
                </a:solidFill>
                <a:uFillTx/>
                <a:latin typeface="SwingSet BB"/>
                <a:hlinkClick r:id="rId50" action="ppaction://hlinksldjump"/>
              </a:rPr>
              <a:t>Ex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Gameboard snippet.wav" descr=""/>
          <p:cNvPicPr/>
          <p:nvPr/>
        </p:nvPicPr>
        <p:blipFill>
          <a:blip r:embed="rId51"/>
          <a:stretch/>
        </p:blipFill>
        <p:spPr>
          <a:xfrm>
            <a:off x="86868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53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990720" y="533520"/>
            <a:ext cx="7086600" cy="459720"/>
          </a:xfrm>
          <a:prstGeom prst="rect">
            <a:avLst/>
          </a:prstGeom>
          <a:solidFill>
            <a:srgbClr val="f6c30a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ot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8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124080" y="5638680"/>
            <a:ext cx="2362320" cy="1067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86728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0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990720" y="1676520"/>
            <a:ext cx="7086600" cy="35812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ure to pick y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clo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cloth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up off of the floo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29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867280"/>
            <a:ext cx="1143000" cy="628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838080" y="1523880"/>
            <a:ext cx="7467840" cy="403884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se: the opposite of o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thes: items such as shir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nts, socks, and sho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n to cover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ORRY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32" name="Picture 120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943600"/>
            <a:ext cx="1152360" cy="628560"/>
          </a:xfrm>
          <a:prstGeom prst="rect">
            <a:avLst/>
          </a:prstGeom>
          <a:ln w="0">
            <a:noFill/>
          </a:ln>
        </p:spPr>
      </p:pic>
      <p:pic>
        <p:nvPicPr>
          <p:cNvPr id="233" name="aoo-2298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990720" y="1371600"/>
            <a:ext cx="7238880" cy="426708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se: the opposite of o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84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CORRECT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36" name="Picture 8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1152360" cy="628560"/>
          </a:xfrm>
          <a:prstGeom prst="rect">
            <a:avLst/>
          </a:prstGeom>
          <a:ln w="0">
            <a:noFill/>
          </a:ln>
        </p:spPr>
      </p:pic>
      <p:pic>
        <p:nvPicPr>
          <p:cNvPr id="237" name="appl2313.wav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914400" y="1600200"/>
            <a:ext cx="7391520" cy="41148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sure to pick y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clothe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up off of the floo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316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990720" y="685800"/>
            <a:ext cx="708660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638680"/>
            <a:ext cx="2362320" cy="1067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0"/>
          <p:cNvSpPr/>
          <p:nvPr/>
        </p:nvSpPr>
        <p:spPr>
          <a:xfrm>
            <a:off x="3352680" y="586728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990720" y="1523880"/>
            <a:ext cx="708660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do you </a:t>
            </a:r>
            <a:r>
              <a:rPr b="0" lang="en-US" sz="40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n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0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kno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orrect answer should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9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943600"/>
            <a:ext cx="1152360" cy="6285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685800" y="1600200"/>
            <a:ext cx="7772400" cy="419112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: negative, opposite of y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ow: to have an understanding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OOPS!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49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76400" cy="628920"/>
          </a:xfrm>
          <a:prstGeom prst="rect">
            <a:avLst/>
          </a:prstGeom>
          <a:ln w="0">
            <a:noFill/>
          </a:ln>
        </p:spPr>
      </p:pic>
      <p:pic>
        <p:nvPicPr>
          <p:cNvPr id="250" name="argh2329.wav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914400" y="1600200"/>
            <a:ext cx="7391520" cy="419112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: negativ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posite of y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3016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FANTASTIC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53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254" name="appl2360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762120" y="1523880"/>
            <a:ext cx="7619760" cy="41148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do you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kno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hat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rrect answer should b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316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914400" y="144792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kne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ne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’s na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89956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73e87"/>
                </a:solidFill>
                <a:uFillTx/>
                <a:latin typeface="Arial Black"/>
              </a:rPr>
              <a:t>INDEPENDENT READING</a:t>
            </a:r>
            <a:br>
              <a:rPr sz="5000"/>
            </a:b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139" name="Picture 2" descr="https://encrypted-tbn3.gstatic.com/images?q=tbn:ANd9GcRHGGr9BUtUo1iQTLe1Im72IsTO105DOQ9Mzmb9-ZfL26WXd6xEuQ"/>
          <p:cNvPicPr/>
          <p:nvPr/>
        </p:nvPicPr>
        <p:blipFill>
          <a:blip r:embed="rId1"/>
          <a:stretch/>
        </p:blipFill>
        <p:spPr>
          <a:xfrm>
            <a:off x="228600" y="3200400"/>
            <a:ext cx="5056200" cy="2381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s://encrypted-tbn3.gstatic.com/images?q=tbn:ANd9GcQcCyRF3pozCICA1NJhDb5_UY7Xa4yMzeIFMhWepRbeWSdeCrbN"/>
          <p:cNvPicPr/>
          <p:nvPr/>
        </p:nvPicPr>
        <p:blipFill>
          <a:blip r:embed="rId2"/>
          <a:stretch/>
        </p:blipFill>
        <p:spPr>
          <a:xfrm>
            <a:off x="6172200" y="3260880"/>
            <a:ext cx="243828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63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1000080" cy="6285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914400" y="1600200"/>
            <a:ext cx="7238880" cy="396252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ew: past tense of 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w: having recently co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o exist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OU’VE GOT IT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66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267" name="revi2360.wav" descr=""/>
          <p:cNvPicPr/>
          <p:nvPr/>
        </p:nvPicPr>
        <p:blipFill>
          <a:blip r:embed="rId3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ne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’s na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640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TRY AGAIN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7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1000080" cy="628560"/>
          </a:xfrm>
          <a:prstGeom prst="rect">
            <a:avLst/>
          </a:prstGeom>
          <a:ln w="0">
            <a:noFill/>
          </a:ln>
        </p:spPr>
      </p:pic>
      <p:pic>
        <p:nvPicPr>
          <p:cNvPr id="271" name="bion2376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ew: past tense of 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184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914400" y="533520"/>
            <a:ext cx="723888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omoph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0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2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0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homony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0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homophon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 w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call one of two or m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ds that are pronounc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ame but differ in meaning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igin, or spel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5943600"/>
            <a:ext cx="1152360" cy="628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nym: one of two or more w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ave the same sound and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spelling but differ in mea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phone: one of two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words that are pro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but differ in mean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igin, or spell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AWESOME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83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1076400" cy="628560"/>
          </a:xfrm>
          <a:prstGeom prst="rect">
            <a:avLst/>
          </a:prstGeom>
          <a:ln w="0">
            <a:noFill/>
          </a:ln>
        </p:spPr>
      </p:pic>
      <p:pic>
        <p:nvPicPr>
          <p:cNvPr id="284" name="Yeehaw.wav" descr=""/>
          <p:cNvPicPr/>
          <p:nvPr/>
        </p:nvPicPr>
        <p:blipFill>
          <a:blip r:embed="rId3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6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homopho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ll one of two or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ds that are pronou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me but differ in meani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, or spel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267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ARE YOU SURE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8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152720" cy="628920"/>
          </a:xfrm>
          <a:prstGeom prst="rect">
            <a:avLst/>
          </a:prstGeom>
          <a:ln w="0">
            <a:noFill/>
          </a:ln>
        </p:spPr>
      </p:pic>
      <p:pic>
        <p:nvPicPr>
          <p:cNvPr id="288" name="Are You Sure.wav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onym: one of two 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words that have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sound and of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ame spelling b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 in mea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133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066680" y="457200"/>
            <a:ext cx="7162920" cy="459720"/>
          </a:xfrm>
          <a:prstGeom prst="rect">
            <a:avLst/>
          </a:prstGeom>
          <a:solidFill>
            <a:srgbClr val="f6c30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11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48640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2"/>
          <p:cNvSpPr/>
          <p:nvPr/>
        </p:nvSpPr>
        <p:spPr>
          <a:xfrm>
            <a:off x="3352680" y="571500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3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1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you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whe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w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o Brandon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Friday nigh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297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re: at, in, 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what pl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ar: to bear 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on a per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73e87"/>
                </a:solidFill>
                <a:latin typeface="SwingSet BB"/>
              </a:rPr>
              <a:t>GIVE YOURSELF A PAT ON THE BACK!</a:t>
            </a:r>
            <a:endParaRPr b="0" lang="en-US" sz="59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0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762120" cy="628920"/>
          </a:xfrm>
          <a:prstGeom prst="rect">
            <a:avLst/>
          </a:prstGeom>
          <a:ln w="0">
            <a:noFill/>
          </a:ln>
        </p:spPr>
      </p:pic>
      <p:pic>
        <p:nvPicPr>
          <p:cNvPr id="301" name="applause.wav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re you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w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o Brandon’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rty Friday nigh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067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609480" y="609480"/>
            <a:ext cx="7925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5bd078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+mj-lt"/>
              </a:rPr>
              <a:t>A Homophone Is...</a:t>
            </a:r>
            <a:endParaRPr b="1" lang="en-US" sz="2400" spc="1" strike="noStrike">
              <a:ln w="0">
                <a:noFill/>
              </a:ln>
              <a:solidFill>
                <a:srgbClr val="5bd078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+mj-lt"/>
              <a:ea typeface="+mj-lt"/>
            </a:endParaRPr>
          </a:p>
        </p:txBody>
      </p:sp>
      <p:pic>
        <p:nvPicPr>
          <p:cNvPr id="142" name="Picture 7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080" y="5486400"/>
            <a:ext cx="251460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pple_blank"/>
          <p:cNvPicPr/>
          <p:nvPr/>
        </p:nvPicPr>
        <p:blipFill>
          <a:blip r:embed="rId3"/>
          <a:stretch/>
        </p:blipFill>
        <p:spPr>
          <a:xfrm>
            <a:off x="3886200" y="5475240"/>
            <a:ext cx="2438280" cy="9525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457200" y="165960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ne of two or more word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uch as </a:t>
            </a:r>
            <a:r>
              <a:rPr b="1" i="1" lang="en-US" sz="4000" spc="-1" strike="noStrike">
                <a:solidFill>
                  <a:srgbClr val="00b050"/>
                </a:solidFill>
                <a:latin typeface="Arial Black"/>
              </a:rPr>
              <a:t>nigh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i="1" lang="en-US" sz="4000" spc="-1" strike="noStrike">
                <a:solidFill>
                  <a:srgbClr val="00b050"/>
                </a:solidFill>
                <a:latin typeface="Arial Black"/>
              </a:rPr>
              <a:t>knight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at are </a:t>
            </a:r>
            <a:r>
              <a:rPr b="1" lang="en-US" sz="4000" spc="-1" strike="noStrike" u="sng">
                <a:solidFill>
                  <a:srgbClr val="ff9900"/>
                </a:solidFill>
                <a:uFillTx/>
                <a:latin typeface="Arial Black"/>
              </a:rPr>
              <a:t>pronounced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ut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 Black"/>
              </a:rPr>
              <a:t>differ in meanin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 Black"/>
              </a:rPr>
              <a:t>origi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nd sometimes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 Black"/>
              </a:rPr>
              <a:t>spellin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990720" y="5695920"/>
            <a:ext cx="1676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4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191120" y="5562720"/>
            <a:ext cx="1676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5" action="ppaction://hlinksldjump"/>
              </a:rPr>
              <a:t>Gam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UH-OH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0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695520" cy="628560"/>
          </a:xfrm>
          <a:prstGeom prst="rect">
            <a:avLst/>
          </a:prstGeom>
          <a:ln w="0">
            <a:noFill/>
          </a:ln>
        </p:spPr>
      </p:pic>
      <p:pic>
        <p:nvPicPr>
          <p:cNvPr id="305" name="pacm2438.wav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re: at, in, 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what pl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68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391520" y="6019920"/>
            <a:ext cx="1752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990720" y="457200"/>
            <a:ext cx="716256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1033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34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035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00b05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make the best biscui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knea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nee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he d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rolling it 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nead: to work or press into a mass with the hand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ed: to be in want of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VERY GOOD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1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771480" cy="628920"/>
          </a:xfrm>
          <a:prstGeom prst="rect">
            <a:avLst/>
          </a:prstGeom>
          <a:ln w="0">
            <a:noFill/>
          </a:ln>
        </p:spPr>
      </p:pic>
      <p:pic>
        <p:nvPicPr>
          <p:cNvPr id="318" name="appl2438.wav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make the best biscuit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knea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he d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fore rolling it ou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4316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WHOOPS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2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771480" cy="628920"/>
          </a:xfrm>
          <a:prstGeom prst="rect">
            <a:avLst/>
          </a:prstGeom>
          <a:ln w="0">
            <a:noFill/>
          </a:ln>
        </p:spPr>
      </p:pic>
      <p:pic>
        <p:nvPicPr>
          <p:cNvPr id="322" name="argh2454.wav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ed: to be in want of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016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’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urry! You are missing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ginning of the gam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They’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the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thei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ki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f right 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695520" cy="628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y’re: contraction for “they ar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: in or at that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: of or relating to them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ally as in pos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YOU’VE GOT IT!</a:t>
            </a:r>
            <a:endParaRPr b="0" lang="en-US" sz="72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3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695520" cy="628920"/>
          </a:xfrm>
          <a:prstGeom prst="rect">
            <a:avLst/>
          </a:prstGeom>
          <a:ln w="0">
            <a:noFill/>
          </a:ln>
        </p:spPr>
      </p:pic>
      <p:pic>
        <p:nvPicPr>
          <p:cNvPr id="335" name="wow22469.wav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urry! You are missing the beginning of the ga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They’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kick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f right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407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HUCKS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3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771480" cy="628920"/>
          </a:xfrm>
          <a:prstGeom prst="rect">
            <a:avLst/>
          </a:prstGeom>
          <a:ln w="0">
            <a:noFill/>
          </a:ln>
        </p:spPr>
      </p:pic>
      <p:pic>
        <p:nvPicPr>
          <p:cNvPr id="339" name="hb062500.wav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7"/>
          <p:cNvSpPr/>
          <p:nvPr/>
        </p:nvSpPr>
        <p:spPr>
          <a:xfrm>
            <a:off x="914400" y="15238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914400" y="144792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838080" y="14659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There: in or at that pl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Their: of or relating to them, especially as in poss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288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838080" y="380880"/>
            <a:ext cx="716292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1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12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dges must be able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b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ba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avy loa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400" y="228240"/>
            <a:ext cx="855036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c00000"/>
                </a:solidFill>
                <a:uFillTx/>
                <a:latin typeface="Arial"/>
              </a:rPr>
              <a:t>HOMOPHONES</a:t>
            </a:r>
            <a:endParaRPr b="0" lang="en-US" sz="49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148" name="Text Box 5" descr=""/>
          <p:cNvPicPr/>
          <p:nvPr/>
        </p:nvPicPr>
        <p:blipFill>
          <a:blip r:embed="rId1"/>
          <a:stretch/>
        </p:blipFill>
        <p:spPr>
          <a:xfrm>
            <a:off x="353880" y="878040"/>
            <a:ext cx="8570880" cy="4651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images.clipartpanda.com/crown-clipart-royalty-free-crown-clipart-illustration-46705.jpg"/>
          <p:cNvPicPr/>
          <p:nvPr/>
        </p:nvPicPr>
        <p:blipFill>
          <a:blip r:embed="rId2"/>
          <a:srcRect l="0" t="19322" r="0" b="23142"/>
          <a:stretch/>
        </p:blipFill>
        <p:spPr>
          <a:xfrm rot="20443800">
            <a:off x="176040" y="2445840"/>
            <a:ext cx="2440080" cy="14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www.clker.com/cliparts/L/A/H/w/I/X/fire-hi.png"/>
          <p:cNvPicPr/>
          <p:nvPr/>
        </p:nvPicPr>
        <p:blipFill>
          <a:blip r:embed="rId3"/>
          <a:stretch/>
        </p:blipFill>
        <p:spPr>
          <a:xfrm rot="966600">
            <a:off x="732960" y="3967200"/>
            <a:ext cx="213372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990720" cy="6285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ar: to hold up or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weight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re: lacking a natural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ual, or appropriate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OU’RE ON A ROLL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5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355" name="yeah baby.wav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idges must be able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b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avy load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4533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TOO BAD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5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847800" cy="628920"/>
          </a:xfrm>
          <a:prstGeom prst="rect">
            <a:avLst/>
          </a:prstGeom>
          <a:ln w="0">
            <a:noFill/>
          </a:ln>
        </p:spPr>
      </p:pic>
      <p:pic>
        <p:nvPicPr>
          <p:cNvPr id="359" name="bball buzzer.wav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6c30a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e: lacking a natura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ual, or appropriate cove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3733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162560" y="59436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90720" y="457200"/>
            <a:ext cx="7162560" cy="459720"/>
          </a:xfrm>
          <a:prstGeom prst="rect">
            <a:avLst/>
          </a:prstGeom>
          <a:solidFill>
            <a:srgbClr val="f6c30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361960" cy="10666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0"/>
          <p:cNvSpPr/>
          <p:nvPr/>
        </p:nvSpPr>
        <p:spPr>
          <a:xfrm>
            <a:off x="3429000" y="579132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writ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righ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rit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swers did you score 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quiz?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68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76400" cy="6289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380880" y="1619280"/>
            <a:ext cx="8305920" cy="4115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Calibri"/>
              </a:rPr>
              <a:t>Write: to form characters on a surface with an instrument such as a 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Calibri"/>
              </a:rPr>
              <a:t>Right: conforming to facts or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Calibri"/>
              </a:rPr>
              <a:t>Rite: a ceremonial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UPERSTAR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72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373" name="revi2578.wav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righ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sw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d you score on the qu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3640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O SAD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76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14400" cy="628560"/>
          </a:xfrm>
          <a:prstGeom prst="rect">
            <a:avLst/>
          </a:prstGeom>
          <a:ln w="0">
            <a:noFill/>
          </a:ln>
        </p:spPr>
      </p:pic>
      <p:pic>
        <p:nvPicPr>
          <p:cNvPr id="377" name="hb052594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e: to form charact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 a surface with a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strument such as a 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te: a ceremonial 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3640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238880" y="61718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1066680" y="457200"/>
            <a:ext cx="716292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2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361960" cy="10666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3429000" y="579132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4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990720" y="19188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I plan to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Arial"/>
                <a:ea typeface="Calibri"/>
                <a:hlinkClick r:id="rId6" action="ppaction://hlinksldjump"/>
              </a:rPr>
              <a:t>pou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Arial"/>
                <a:ea typeface="Calibri"/>
                <a:hlinkClick r:id="rId7" action="ppaction://hlinksldjump"/>
              </a:rPr>
              <a:t>poo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Arial"/>
                <a:ea typeface="Calibri"/>
                <a:hlinkClick r:id="rId8" action="ppaction://hlinksldjump"/>
              </a:rPr>
              <a:t>por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ove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the study guide tonight s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I will do we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on the t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76400" cy="6289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990720" y="1486080"/>
            <a:ext cx="7162560" cy="41526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ur: to cause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low in a 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or: lack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erial pos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re: to read 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udy attentiv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HOORAY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9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924120" cy="628920"/>
          </a:xfrm>
          <a:prstGeom prst="rect">
            <a:avLst/>
          </a:prstGeom>
          <a:ln w="0">
            <a:noFill/>
          </a:ln>
        </p:spPr>
      </p:pic>
      <p:pic>
        <p:nvPicPr>
          <p:cNvPr id="391" name="Shazam.wav" descr=""/>
          <p:cNvPicPr/>
          <p:nvPr/>
        </p:nvPicPr>
        <p:blipFill>
          <a:blip r:embed="rId3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plan to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po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ver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y guide tonight s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do well on the t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133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http://t3.gstatic.com/images?q=tbn:ANd9GcRi-y9bgN591GYGXjr_LGTvYi3Q1rG43WnHotk3BOpYkFHdV3EE"/>
          <p:cNvPicPr/>
          <p:nvPr/>
        </p:nvPicPr>
        <p:blipFill>
          <a:blip r:embed="rId1"/>
          <a:srcRect l="0" t="1089" r="0" b="18877"/>
          <a:stretch/>
        </p:blipFill>
        <p:spPr>
          <a:xfrm>
            <a:off x="5987880" y="4956120"/>
            <a:ext cx="2889360" cy="1540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71680" indent="-571680" algn="ctr"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3e87"/>
                </a:solidFill>
                <a:latin typeface="Arial Black"/>
              </a:rPr>
              <a:t>WRITE DOWN AS MANY HOMOPHONES AS YOU CAN THINK OF</a:t>
            </a:r>
            <a:endParaRPr b="0" lang="en-US" sz="40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2437920"/>
            <a:ext cx="5790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their, they’re 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nd </a:t>
            </a: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deer 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nd </a:t>
            </a: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hear 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nd </a:t>
            </a: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to, too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, and </a:t>
            </a:r>
            <a:r>
              <a:rPr b="1" i="1" lang="en-US" sz="35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4541760" y="-5475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694400" y="-395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http://www.illustrationsof.com/royalty-free-deer-clipart-illustration-231504.jpg"/>
          <p:cNvPicPr/>
          <p:nvPr/>
        </p:nvPicPr>
        <p:blipFill>
          <a:blip r:embed="rId2"/>
          <a:srcRect l="3997" t="0" r="4316" b="4238"/>
          <a:stretch/>
        </p:blipFill>
        <p:spPr>
          <a:xfrm rot="807600">
            <a:off x="4512960" y="3921120"/>
            <a:ext cx="1855800" cy="203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images.clipartpanda.com/ears-clipart-for-kids-ear-clip-art-ear-clip-art-14.gif"/>
          <p:cNvPicPr/>
          <p:nvPr/>
        </p:nvPicPr>
        <p:blipFill>
          <a:blip r:embed="rId3"/>
          <a:stretch/>
        </p:blipFill>
        <p:spPr>
          <a:xfrm>
            <a:off x="5987880" y="2505240"/>
            <a:ext cx="1184400" cy="14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http://t1.gstatic.com/images?q=tbn:ANd9GcRjc99xj8MCzBs_y3xn3burAT3aG7oSqO4oC7FtbpSRU3C1eTzWtw"/>
          <p:cNvPicPr/>
          <p:nvPr/>
        </p:nvPicPr>
        <p:blipFill>
          <a:blip r:embed="rId4"/>
          <a:stretch/>
        </p:blipFill>
        <p:spPr>
          <a:xfrm rot="20369400">
            <a:off x="7467120" y="319212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THINK AGAIN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394" name="Picture 8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847800" cy="628920"/>
          </a:xfrm>
          <a:prstGeom prst="rect">
            <a:avLst/>
          </a:prstGeom>
          <a:ln w="0">
            <a:noFill/>
          </a:ln>
        </p:spPr>
      </p:pic>
      <p:pic>
        <p:nvPicPr>
          <p:cNvPr id="395" name="boing.wav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990720" y="1465920"/>
            <a:ext cx="716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Pour: to cause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flow in a str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Poor: lacking material posses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48640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0"/>
          <p:cNvSpPr/>
          <p:nvPr/>
        </p:nvSpPr>
        <p:spPr>
          <a:xfrm>
            <a:off x="3429000" y="571500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need a black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pa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pa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p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shoes to wear to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nce Friday 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8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924120" cy="628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6"/>
          <p:cNvSpPr/>
          <p:nvPr/>
        </p:nvSpPr>
        <p:spPr>
          <a:xfrm>
            <a:off x="762120" y="1486080"/>
            <a:ext cx="7429320" cy="422892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ir: to corresponding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ed for use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e: to trim off an outside, excess, or irregular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ar: a pome fruit of a tre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UPER JOB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0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409" name="great.wav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need a black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pai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of shoes t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ar to the dance Friday 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5733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OT THIS TIME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12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pic>
        <p:nvPicPr>
          <p:cNvPr id="413" name="hb032641.wav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7"/>
          <p:cNvSpPr/>
          <p:nvPr/>
        </p:nvSpPr>
        <p:spPr>
          <a:xfrm>
            <a:off x="914400" y="1447920"/>
            <a:ext cx="7238880" cy="419076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990720" y="1467000"/>
            <a:ext cx="72388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Pare: to trim off an outside, excess, or irregular p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Pear: a pome fru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of a tre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91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033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638680"/>
            <a:ext cx="2362320" cy="10670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034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1035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838080" y="1371600"/>
            <a:ext cx="723924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e plan to stay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hea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he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il the storm passes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924120" cy="628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: to receive sou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ves in one’s e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re: indicating a specif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, usually whe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aker currently i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OU DID IT AGAIN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26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427" name="Wow.wav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e plan to stay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he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til the storm pas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4400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KEEP TRYING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3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431" name="boob2656.wav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: to receive sou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ves in one’s ea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976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990720" y="457200"/>
            <a:ext cx="7086600" cy="459720"/>
          </a:xfrm>
          <a:prstGeom prst="rect">
            <a:avLst/>
          </a:prstGeom>
          <a:solidFill>
            <a:srgbClr val="f6c30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48640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0"/>
          <p:cNvSpPr/>
          <p:nvPr/>
        </p:nvSpPr>
        <p:spPr>
          <a:xfrm>
            <a:off x="3352680" y="571500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0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do you think will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ilt on that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sit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sigh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http://images.clipartpanda.com/knight-clipart-black-and-white-knight-clip-art-armor-knight-free-clipart.png"/>
          <p:cNvPicPr/>
          <p:nvPr/>
        </p:nvPicPr>
        <p:blipFill>
          <a:blip r:embed="rId1"/>
          <a:stretch/>
        </p:blipFill>
        <p:spPr>
          <a:xfrm>
            <a:off x="6629400" y="3946680"/>
            <a:ext cx="2209680" cy="2408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cdn.graphicsfactory.com/clip-art/image_files/image/9/1312379-cowboys_4162007-176.gif"/>
          <p:cNvPicPr/>
          <p:nvPr/>
        </p:nvPicPr>
        <p:blipFill>
          <a:blip r:embed="rId2"/>
          <a:stretch/>
        </p:blipFill>
        <p:spPr>
          <a:xfrm>
            <a:off x="228600" y="1981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336699"/>
                </a:solidFill>
                <a:uFillTx/>
                <a:latin typeface="Arial"/>
              </a:rPr>
              <a:t>OTHER EXAMPLES OF HOMOPHONES:</a:t>
            </a:r>
            <a:endParaRPr b="0" lang="en-US" sz="35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62120" y="1143000"/>
            <a:ext cx="79246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Don't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waste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 the remaining pap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Tie a belt around your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waist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We need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rain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 to end the drought.</a:t>
            </a:r>
            <a:br>
              <a:rPr sz="3000"/>
            </a:b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The queen has had a long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reign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.</a:t>
            </a:r>
            <a:br>
              <a:rPr sz="3000"/>
            </a:b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It was a starry 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night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The 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knight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 never used his swor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I ride the bus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to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 schoo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She does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too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It is </a:t>
            </a:r>
            <a:r>
              <a:rPr b="1" lang="en-US" sz="3000" spc="-1" strike="noStrike">
                <a:solidFill>
                  <a:srgbClr val="cc6600"/>
                </a:solidFill>
                <a:latin typeface="'courier new'"/>
              </a:rPr>
              <a:t>two</a:t>
            </a:r>
            <a:r>
              <a:rPr b="1" lang="en-US" sz="3000" spc="-1" strike="noStrike">
                <a:solidFill>
                  <a:srgbClr val="073763"/>
                </a:solidFill>
                <a:latin typeface="'courier new'"/>
              </a:rPr>
              <a:t> o'clo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http://thumbs.gograph.com/gg59341668.jpg"/>
          <p:cNvPicPr/>
          <p:nvPr/>
        </p:nvPicPr>
        <p:blipFill>
          <a:blip r:embed="rId3"/>
          <a:stretch/>
        </p:blipFill>
        <p:spPr>
          <a:xfrm>
            <a:off x="279360" y="4465800"/>
            <a:ext cx="26668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40" name="Picture 5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te: the spatial location of an actual or planned struc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ght: the ability to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O DEAL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43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695520" cy="628920"/>
          </a:xfrm>
          <a:prstGeom prst="rect">
            <a:avLst/>
          </a:prstGeom>
          <a:ln w="0">
            <a:noFill/>
          </a:ln>
        </p:spPr>
      </p:pic>
      <p:pic>
        <p:nvPicPr>
          <p:cNvPr id="444" name="hb022672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ght: the ability to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144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TERRIFIC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4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847800" cy="628920"/>
          </a:xfrm>
          <a:prstGeom prst="rect">
            <a:avLst/>
          </a:prstGeom>
          <a:ln w="0">
            <a:noFill/>
          </a:ln>
        </p:spPr>
      </p:pic>
      <p:pic>
        <p:nvPicPr>
          <p:cNvPr id="448" name="fanf2688.wav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do you think will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ilt on that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sit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2288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7315200" y="601992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00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914400" y="457200"/>
            <a:ext cx="708660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10"/>
          <p:cNvSpPr/>
          <p:nvPr/>
        </p:nvSpPr>
        <p:spPr>
          <a:xfrm>
            <a:off x="3352680" y="5791320"/>
            <a:ext cx="1524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must use comm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cent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scent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sen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king important decisions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847800" cy="62892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6"/>
          <p:cNvSpPr/>
          <p:nvPr/>
        </p:nvSpPr>
        <p:spPr>
          <a:xfrm>
            <a:off x="762120" y="1447920"/>
            <a:ext cx="7619760" cy="426708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ents: coins or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ing one c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ents: particular odors th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usually agre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e: the ability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fectively use your br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HAZAM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60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pic>
        <p:nvPicPr>
          <p:cNvPr id="461" name="Shazam.wav" descr=""/>
          <p:cNvPicPr/>
          <p:nvPr/>
        </p:nvPicPr>
        <p:blipFill>
          <a:blip r:embed="rId3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7"/>
          <p:cNvSpPr/>
          <p:nvPr/>
        </p:nvSpPr>
        <p:spPr>
          <a:xfrm>
            <a:off x="838080" y="1486080"/>
            <a:ext cx="7543800" cy="4381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must use common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sen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making important decis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4133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HOOT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6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95880"/>
            <a:ext cx="771480" cy="628920"/>
          </a:xfrm>
          <a:prstGeom prst="rect">
            <a:avLst/>
          </a:prstGeom>
          <a:ln w="0">
            <a:noFill/>
          </a:ln>
        </p:spPr>
      </p:pic>
      <p:pic>
        <p:nvPicPr>
          <p:cNvPr id="465" name="boom2703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ents: coins or toke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presenting one c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ents: particular odors that are usually agree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3016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7162560" y="5867280"/>
            <a:ext cx="1981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0"/>
          <p:cNvSpPr/>
          <p:nvPr/>
        </p:nvSpPr>
        <p:spPr>
          <a:xfrm>
            <a:off x="3429000" y="571500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It’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It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going to rain to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’s: contraction for 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: of or relating to i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as a poss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SwingSet BB"/>
              </a:rPr>
              <a:t>YOU’VE GOT YOUR BRAIN IN GEAR!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77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pic>
        <p:nvPicPr>
          <p:cNvPr id="478" name="fanf2719.wav" descr=""/>
          <p:cNvPicPr/>
          <p:nvPr/>
        </p:nvPicPr>
        <p:blipFill>
          <a:blip r:embed="rId3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7"/>
          <p:cNvSpPr/>
          <p:nvPr/>
        </p:nvSpPr>
        <p:spPr>
          <a:xfrm>
            <a:off x="990720" y="15238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It’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going to rain to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992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http://images.clipartpanda.com/question-GeneralQuestions.jpg"/>
          <p:cNvPicPr/>
          <p:nvPr/>
        </p:nvPicPr>
        <p:blipFill>
          <a:blip r:embed="rId1"/>
          <a:stretch/>
        </p:blipFill>
        <p:spPr>
          <a:xfrm>
            <a:off x="3352680" y="2144880"/>
            <a:ext cx="3021120" cy="4027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73e87"/>
                </a:solidFill>
                <a:uFillTx/>
                <a:latin typeface="Arial Black"/>
              </a:rPr>
              <a:t>QUESTIONS?????</a:t>
            </a:r>
            <a:endParaRPr b="0" lang="en-US" sz="6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166" name="Picture 2" descr="http://www.clker.com/cliparts/d/M/0/7/g/5/ask-questions-interstate-sign-md.png"/>
          <p:cNvPicPr/>
          <p:nvPr/>
        </p:nvPicPr>
        <p:blipFill>
          <a:blip r:embed="rId2"/>
          <a:stretch/>
        </p:blipFill>
        <p:spPr>
          <a:xfrm rot="20802000">
            <a:off x="609480" y="2438280"/>
            <a:ext cx="2629080" cy="2838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Questions on Arrow SIgns - Who What Where When Why How"/>
          <p:cNvPicPr/>
          <p:nvPr/>
        </p:nvPicPr>
        <p:blipFill>
          <a:blip r:embed="rId3"/>
          <a:srcRect l="16793" t="4106" r="14644" b="5986"/>
          <a:stretch/>
        </p:blipFill>
        <p:spPr>
          <a:xfrm>
            <a:off x="6373800" y="2144880"/>
            <a:ext cx="228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73e87"/>
                </a:solidFill>
                <a:latin typeface="SwingSet BB"/>
              </a:rPr>
              <a:t>THAT’S NOT THE ANSWER WE’RE LOOKING FOR!</a:t>
            </a:r>
            <a:endParaRPr b="0" lang="en-US" sz="4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8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482" name="wawa2750.wav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ts: of or relating to i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as a poss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953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9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"/>
          <p:cNvSpPr/>
          <p:nvPr/>
        </p:nvSpPr>
        <p:spPr>
          <a:xfrm>
            <a:off x="3429000" y="579132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11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time do you wan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me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mee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t the mall on Satur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847800" cy="62856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6"/>
          <p:cNvSpPr/>
          <p:nvPr/>
        </p:nvSpPr>
        <p:spPr>
          <a:xfrm>
            <a:off x="914400" y="15238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at: animal tissue conside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ally as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et: to come together at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ular time or pla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AHOO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94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95880"/>
            <a:ext cx="1000080" cy="628920"/>
          </a:xfrm>
          <a:prstGeom prst="rect">
            <a:avLst/>
          </a:prstGeom>
          <a:ln w="0">
            <a:noFill/>
          </a:ln>
        </p:spPr>
      </p:pic>
      <p:pic>
        <p:nvPicPr>
          <p:cNvPr id="495" name="goof2766.wav" descr=""/>
          <p:cNvPicPr/>
          <p:nvPr/>
        </p:nvPicPr>
        <p:blipFill>
          <a:blip r:embed="rId3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time do you want to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4" action="ppaction://hlinksldjump"/>
              </a:rPr>
              <a:t>mee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t the mall on Satur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976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BUMMER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49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914400" cy="628560"/>
          </a:xfrm>
          <a:prstGeom prst="rect">
            <a:avLst/>
          </a:prstGeom>
          <a:ln w="0">
            <a:noFill/>
          </a:ln>
        </p:spPr>
      </p:pic>
      <p:pic>
        <p:nvPicPr>
          <p:cNvPr id="499" name="boomerang.wav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at: animal tissue consider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peciall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foo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5333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7238880" y="6095520"/>
            <a:ext cx="1905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990720" y="457200"/>
            <a:ext cx="7086600" cy="459720"/>
          </a:xfrm>
          <a:prstGeom prst="rect">
            <a:avLst/>
          </a:prstGeom>
          <a:solidFill>
            <a:srgbClr val="f6c30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2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55627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3429000" y="5791320"/>
            <a:ext cx="15238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80ff"/>
                </a:solidFill>
                <a:uFillTx/>
                <a:latin typeface="SwingSet BB"/>
                <a:hlinkClick r:id="rId3" action="ppaction://hlinksldjump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4" descr="questi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day, I will 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6" action="ppaction://hlinksldjump"/>
              </a:rPr>
              <a:t>rai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7" action="ppaction://hlinksldjump"/>
              </a:rPr>
              <a:t>rei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800" spc="-1" strike="noStrike" u="sng">
                <a:solidFill>
                  <a:srgbClr val="0080ff"/>
                </a:solidFill>
                <a:uFillTx/>
                <a:latin typeface="Times New Roman"/>
                <a:hlinkClick r:id="rId8" action="ppaction://hlinksldjump"/>
              </a:rPr>
              <a:t>reig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 the entire universe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dicted the ali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08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6"/>
          <p:cNvSpPr/>
          <p:nvPr/>
        </p:nvSpPr>
        <p:spPr>
          <a:xfrm>
            <a:off x="685800" y="1486080"/>
            <a:ext cx="7620120" cy="41526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in: water falling in dr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ensed from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in: a restraining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ign: the time during which one, as a sovereign, r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SENSATIONAL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11" name="Picture 7" descr="Back412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019920"/>
            <a:ext cx="924120" cy="628560"/>
          </a:xfrm>
          <a:prstGeom prst="rect">
            <a:avLst/>
          </a:prstGeom>
          <a:ln w="0">
            <a:noFill/>
          </a:ln>
        </p:spPr>
      </p:pic>
      <p:pic>
        <p:nvPicPr>
          <p:cNvPr id="512" name="great.wav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e day I will reig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entire universe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dicted the ali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5733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ALMOST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15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914400" cy="628560"/>
          </a:xfrm>
          <a:prstGeom prst="rect">
            <a:avLst/>
          </a:prstGeom>
          <a:ln w="0">
            <a:noFill/>
          </a:ln>
        </p:spPr>
      </p:pic>
      <p:pic>
        <p:nvPicPr>
          <p:cNvPr id="516" name="hb012781.wav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in: water falling in drop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ensed from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in: a restraining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2912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7086240" y="586728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9" descr="apple_blank"/>
          <p:cNvPicPr/>
          <p:nvPr/>
        </p:nvPicPr>
        <p:blipFill>
          <a:blip r:embed="rId1"/>
          <a:stretch/>
        </p:blipFill>
        <p:spPr>
          <a:xfrm>
            <a:off x="3276720" y="5638680"/>
            <a:ext cx="2286000" cy="10670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10"/>
          <p:cNvSpPr/>
          <p:nvPr/>
        </p:nvSpPr>
        <p:spPr>
          <a:xfrm>
            <a:off x="3429000" y="5867280"/>
            <a:ext cx="15238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SwingSet BB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11" descr="question"/>
          <p:cNvPicPr/>
          <p:nvPr/>
        </p:nvPicPr>
        <p:blipFill>
          <a:blip r:embed="rId2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ather/Whether or no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choose to stu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rd is up 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Rectangle 1"/>
          <p:cNvGrpSpPr/>
          <p:nvPr/>
        </p:nvGrpSpPr>
        <p:grpSpPr>
          <a:xfrm>
            <a:off x="-92160" y="-92160"/>
            <a:ext cx="9255240" cy="6969240"/>
            <a:chOff x="-92160" y="-92160"/>
            <a:chExt cx="9255240" cy="6969240"/>
          </a:xfrm>
        </p:grpSpPr>
        <p:pic>
          <p:nvPicPr>
            <p:cNvPr id="169" name="Rectangle 1" descr=""/>
            <p:cNvPicPr/>
            <p:nvPr/>
          </p:nvPicPr>
          <p:blipFill>
            <a:blip r:embed="rId1"/>
            <a:stretch/>
          </p:blipFill>
          <p:spPr>
            <a:xfrm>
              <a:off x="-92160" y="-92160"/>
              <a:ext cx="9255240" cy="696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-76320" y="-76320"/>
              <a:ext cx="9220320" cy="69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0" y="3581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Arial Black"/>
              </a:rPr>
              <a:t>A GAME DESIGNED TO HELP YOU LEARN HOW TO USE HOMOPHONES CORRECTL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3352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ngSet BB"/>
              </a:rPr>
              <a:t>How do I pl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124080" y="5791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ngSet BB"/>
              </a:rPr>
              <a:t>Take me to the game boar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629400" y="5791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ngSet BB"/>
              </a:rPr>
              <a:t>What’s a homoph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5" descr="School Teacher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66680" y="4495680"/>
            <a:ext cx="939960" cy="16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pple_butt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4876920"/>
            <a:ext cx="243864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"/>
          <p:cNvSpPr/>
          <p:nvPr/>
        </p:nvSpPr>
        <p:spPr>
          <a:xfrm>
            <a:off x="7162920" y="5105520"/>
            <a:ext cx="144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6" action="ppaction://hlinksldjump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8" descr="apple_blank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429000" y="4724280"/>
            <a:ext cx="2133720" cy="1067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9"/>
          <p:cNvSpPr/>
          <p:nvPr/>
        </p:nvSpPr>
        <p:spPr>
          <a:xfrm>
            <a:off x="3657600" y="4876920"/>
            <a:ext cx="1600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9" action="ppaction://hlinksldjump"/>
              </a:rPr>
              <a:t>Gam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ame Background.wav" descr=""/>
          <p:cNvPicPr/>
          <p:nvPr/>
        </p:nvPicPr>
        <p:blipFill>
          <a:blip r:embed="rId10"/>
          <a:stretch/>
        </p:blipFill>
        <p:spPr>
          <a:xfrm>
            <a:off x="86104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2" descr=""/>
          <p:cNvPicPr/>
          <p:nvPr/>
        </p:nvPicPr>
        <p:blipFill>
          <a:blip r:embed="rId11"/>
          <a:stretch/>
        </p:blipFill>
        <p:spPr>
          <a:xfrm>
            <a:off x="231840" y="-96840"/>
            <a:ext cx="8686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600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21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1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8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838440" cy="6285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ather: relating to vario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s of  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ther: indicating a choi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in whether or no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SwingSet BB"/>
              </a:rPr>
              <a:t>LET’S FACE IT… YOU’RE GOOD!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28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914400" cy="628560"/>
          </a:xfrm>
          <a:prstGeom prst="rect">
            <a:avLst/>
          </a:prstGeom>
          <a:ln w="0">
            <a:noFill/>
          </a:ln>
        </p:spPr>
      </p:pic>
      <p:pic>
        <p:nvPicPr>
          <p:cNvPr id="529" name="fanf2812.wav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ther or not you cho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tudy hard is up to you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3640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SwingSet BB"/>
              </a:rPr>
              <a:t>LET’S LOOK AT IT AGAIN!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32" name="Picture 7" descr="Back412a"/>
          <p:cNvPicPr/>
          <p:nvPr/>
        </p:nvPicPr>
        <p:blipFill>
          <a:blip r:embed="rId1"/>
          <a:stretch/>
        </p:blipFill>
        <p:spPr>
          <a:xfrm>
            <a:off x="152280" y="6095880"/>
            <a:ext cx="838440" cy="628920"/>
          </a:xfrm>
          <a:prstGeom prst="rect">
            <a:avLst/>
          </a:prstGeom>
          <a:ln w="0">
            <a:noFill/>
          </a:ln>
        </p:spPr>
      </p:pic>
      <p:pic>
        <p:nvPicPr>
          <p:cNvPr id="533" name="wawa2812.wav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9933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ather: relating to various condition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the atmosphe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1953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7009920" y="5867280"/>
            <a:ext cx="213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990720" y="533520"/>
            <a:ext cx="7086600" cy="459720"/>
          </a:xfrm>
          <a:prstGeom prst="rect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o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9" descr="apple_blank"/>
          <p:cNvPicPr/>
          <p:nvPr/>
        </p:nvPicPr>
        <p:blipFill>
          <a:blip r:embed="rId1"/>
          <a:stretch/>
        </p:blipFill>
        <p:spPr>
          <a:xfrm>
            <a:off x="3276720" y="55627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0"/>
          <p:cNvSpPr/>
          <p:nvPr/>
        </p:nvSpPr>
        <p:spPr>
          <a:xfrm>
            <a:off x="3429000" y="5791320"/>
            <a:ext cx="15238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SwingSet BB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11" descr="question"/>
          <p:cNvPicPr/>
          <p:nvPr/>
        </p:nvPicPr>
        <p:blipFill>
          <a:blip r:embed="rId2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ry few thing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tionary/stationery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Category 5 hurric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tionary: unchan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condi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tionery: materials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ing or 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YOU ROCK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45" name="Picture 7" descr="Back412a"/>
          <p:cNvPicPr/>
          <p:nvPr/>
        </p:nvPicPr>
        <p:blipFill>
          <a:blip r:embed="rId1"/>
          <a:stretch/>
        </p:blipFill>
        <p:spPr>
          <a:xfrm>
            <a:off x="152280" y="6095880"/>
            <a:ext cx="924120" cy="628920"/>
          </a:xfrm>
          <a:prstGeom prst="rect">
            <a:avLst/>
          </a:prstGeom>
          <a:ln w="0">
            <a:noFill/>
          </a:ln>
        </p:spPr>
      </p:pic>
      <p:pic>
        <p:nvPicPr>
          <p:cNvPr id="546" name="cuck282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ry few things are stationary in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tegory 5 hurrica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144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NOT QUITE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49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550" name="glas2828.wav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336699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tionery: materials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ing or ty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456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14400" y="457200"/>
            <a:ext cx="7162920" cy="459720"/>
          </a:xfrm>
          <a:prstGeom prst="rect">
            <a:avLst/>
          </a:prstGeom>
          <a:solidFill>
            <a:srgbClr val="33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9" descr="apple_blank"/>
          <p:cNvPicPr/>
          <p:nvPr/>
        </p:nvPicPr>
        <p:blipFill>
          <a:blip r:embed="rId1"/>
          <a:stretch/>
        </p:blipFill>
        <p:spPr>
          <a:xfrm>
            <a:off x="3200400" y="5562720"/>
            <a:ext cx="2362320" cy="10666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0"/>
          <p:cNvSpPr/>
          <p:nvPr/>
        </p:nvSpPr>
        <p:spPr>
          <a:xfrm>
            <a:off x="3352680" y="5791320"/>
            <a:ext cx="15242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SwingSet BB"/>
              </a:rPr>
              <a:t>Gamebo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11" descr="question"/>
          <p:cNvPicPr/>
          <p:nvPr/>
        </p:nvPicPr>
        <p:blipFill>
          <a:blip r:embed="rId2"/>
          <a:stretch/>
        </p:blipFill>
        <p:spPr>
          <a:xfrm>
            <a:off x="228600" y="5791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9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e accept/excep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apolog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73e87"/>
                </a:solidFill>
                <a:latin typeface="SwingSet BB"/>
              </a:rPr>
              <a:t>Need a hin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6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cept: to receive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cept: excluding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SwingSet BB"/>
              </a:rPr>
              <a:t>ARE YOU GOOD OR WHAT?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62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pic>
        <p:nvPicPr>
          <p:cNvPr id="563" name="cash2859.wav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ease accept my apolog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624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506520" y="1009800"/>
            <a:ext cx="8103960" cy="44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by selecting a category and question point value. Choose the homophone that correctly completes the sentence by clicking directly on i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a hint? Click on the rotating question mark on the lower-left side of your scre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flashing arrow to return to the question. To return to the game board, simply click on the word Gam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keep score, give yourself full credit for the question only if you answer it correctly on the first try. Give yourself half-credit if you answer correctly after receiving a h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hese directions again? Click the teacher            on the game board.  </a:t>
            </a:r>
            <a:r>
              <a:rPr b="1" lang="en-US" sz="2500" spc="-1" strike="noStrike" u="sng">
                <a:solidFill>
                  <a:srgbClr val="00b050"/>
                </a:solidFill>
                <a:uFillTx/>
                <a:latin typeface="Arial"/>
              </a:rPr>
              <a:t>GOOD LUCK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1" descr="apple_blan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6520" y="5353200"/>
            <a:ext cx="2438280" cy="1066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apple_blank"/>
          <p:cNvPicPr/>
          <p:nvPr/>
        </p:nvPicPr>
        <p:blipFill>
          <a:blip r:embed="rId3"/>
          <a:stretch/>
        </p:blipFill>
        <p:spPr>
          <a:xfrm>
            <a:off x="3809880" y="5410080"/>
            <a:ext cx="2057400" cy="1028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School Teacher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191120"/>
            <a:ext cx="685800" cy="863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4"/>
          <p:cNvSpPr/>
          <p:nvPr/>
        </p:nvSpPr>
        <p:spPr>
          <a:xfrm>
            <a:off x="3962520" y="5532480"/>
            <a:ext cx="1523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6" action="ppaction://hlinksldjump"/>
              </a:rPr>
              <a:t>Game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762120" y="5486400"/>
            <a:ext cx="1676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SwingSet BB"/>
                <a:hlinkClick r:id="rId7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506520" y="380880"/>
            <a:ext cx="4052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b050"/>
                </a:solidFill>
                <a:uFillTx/>
                <a:latin typeface="Arial Black"/>
              </a:rPr>
              <a:t>How to Play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73e87"/>
                </a:solidFill>
                <a:latin typeface="SwingSet BB"/>
              </a:rPr>
              <a:t>OOPSY-DAISY!</a:t>
            </a:r>
            <a:endParaRPr b="0" lang="en-US" sz="6500" spc="-1" strike="noStrike">
              <a:solidFill>
                <a:srgbClr val="073e87"/>
              </a:solidFill>
              <a:latin typeface="Arial Black"/>
            </a:endParaRPr>
          </a:p>
        </p:txBody>
      </p:sp>
      <p:pic>
        <p:nvPicPr>
          <p:cNvPr id="566" name="Picture 7" descr="Back412a"/>
          <p:cNvPicPr/>
          <p:nvPr/>
        </p:nvPicPr>
        <p:blipFill>
          <a:blip r:embed="rId1"/>
          <a:stretch/>
        </p:blipFill>
        <p:spPr>
          <a:xfrm>
            <a:off x="152280" y="6019920"/>
            <a:ext cx="771480" cy="628560"/>
          </a:xfrm>
          <a:prstGeom prst="rect">
            <a:avLst/>
          </a:prstGeom>
          <a:ln w="0">
            <a:noFill/>
          </a:ln>
        </p:spPr>
      </p:pic>
      <p:pic>
        <p:nvPicPr>
          <p:cNvPr id="567" name="Yikes.wav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7"/>
          <p:cNvSpPr/>
          <p:nvPr/>
        </p:nvSpPr>
        <p:spPr>
          <a:xfrm>
            <a:off x="952560" y="1486080"/>
            <a:ext cx="7238880" cy="388620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cept: excluding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4533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4"/>
          <p:cNvSpPr txBox="1"/>
          <p:nvPr/>
        </p:nvSpPr>
        <p:spPr>
          <a:xfrm>
            <a:off x="533520" y="685800"/>
            <a:ext cx="81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5bd078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+mj-lt"/>
              </a:rPr>
              <a:t>How did you do?</a:t>
            </a:r>
            <a:endParaRPr b="1" lang="en-US" sz="4400" spc="1" strike="noStrike">
              <a:ln w="0">
                <a:noFill/>
              </a:ln>
              <a:solidFill>
                <a:srgbClr val="5bd078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+mj-lt"/>
              <a:ea typeface="+mj-lt"/>
            </a:endParaRPr>
          </a:p>
        </p:txBody>
      </p:sp>
      <p:pic>
        <p:nvPicPr>
          <p:cNvPr id="570" name="Picture 7" descr="apple_welcome_blank"/>
          <p:cNvPicPr/>
          <p:nvPr/>
        </p:nvPicPr>
        <p:blipFill>
          <a:blip r:embed="rId1"/>
          <a:stretch/>
        </p:blipFill>
        <p:spPr>
          <a:xfrm>
            <a:off x="1449360" y="1295280"/>
            <a:ext cx="7569360" cy="41148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8"/>
          <p:cNvSpPr/>
          <p:nvPr/>
        </p:nvSpPr>
        <p:spPr>
          <a:xfrm>
            <a:off x="1523880" y="2133720"/>
            <a:ext cx="7391520" cy="2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Add up your score, giving yourself full credit for the question                            only if you answered it correctly on the first try.                                                              Give yourself half-credit if you answered correctly after receiving a hin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5000-6000 points:  Wow!! You’re a pro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3000-4900 points: Pretty good, but you’ve not mastered homophones  yet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1000 – 2900 points: You could use a little more practic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0 – 990 points: Did you even use the tutorial?!?!? </a:t>
            </a:r>
            <a:r>
              <a:rPr b="1" lang="en-US" sz="15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5" descr="School Teacher01"/>
          <p:cNvPicPr/>
          <p:nvPr/>
        </p:nvPicPr>
        <p:blipFill>
          <a:blip r:embed="rId2"/>
          <a:stretch/>
        </p:blipFill>
        <p:spPr>
          <a:xfrm>
            <a:off x="237960" y="3200400"/>
            <a:ext cx="1738440" cy="29718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Apple"/>
          <p:cNvPicPr/>
          <p:nvPr/>
        </p:nvPicPr>
        <p:blipFill>
          <a:blip r:embed="rId3"/>
          <a:stretch/>
        </p:blipFill>
        <p:spPr>
          <a:xfrm>
            <a:off x="8077320" y="6072120"/>
            <a:ext cx="838080" cy="7858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1"/>
          <p:cNvSpPr/>
          <p:nvPr/>
        </p:nvSpPr>
        <p:spPr>
          <a:xfrm>
            <a:off x="8001000" y="63388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ngSet BB"/>
              </a:rPr>
              <a:t>Click 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comp2875.wav" descr=""/>
          <p:cNvPicPr/>
          <p:nvPr/>
        </p:nvPicPr>
        <p:blipFill>
          <a:blip r:embed="rId4"/>
          <a:stretch/>
        </p:blipFill>
        <p:spPr>
          <a:xfrm>
            <a:off x="85680" y="648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37465 C -0.07969 0.288 -0.0592 0.20158 -0.03021 0.17354 C -0.00121 0.14551 0.05955 0.18258 0.07396 0.20644 C 0.08837 0.23031 0.0809 0.32669 0.05608 0.31627 C 0.03125 0.30584 -0.07882 0.19463 -0.07535 0.14435 C -0.07187 0.09407 0.03177 0.02062 0.07674 0.0146 C 0.1217 0.00857 0.18212 0.07414 0.19445 0.10774 C 0.20677 0.14134 0.18316 0.23378 0.1507 0.21571 C 0.11823 0.19764 0.05903 0.0987 1.66667E-006 -1.68675E-006 E">
                                      <p:cBhvr>
                                        <p:cTn id="416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699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Rectangle 1"/>
          <p:cNvGrpSpPr/>
          <p:nvPr/>
        </p:nvGrpSpPr>
        <p:grpSpPr>
          <a:xfrm>
            <a:off x="19080" y="-12600"/>
            <a:ext cx="9296280" cy="6889680"/>
            <a:chOff x="19080" y="-12600"/>
            <a:chExt cx="9296280" cy="6889680"/>
          </a:xfrm>
        </p:grpSpPr>
        <p:pic>
          <p:nvPicPr>
            <p:cNvPr id="577" name="Rectangle 1" descr=""/>
            <p:cNvPicPr/>
            <p:nvPr/>
          </p:nvPicPr>
          <p:blipFill>
            <a:blip r:embed="rId1"/>
            <a:stretch/>
          </p:blipFill>
          <p:spPr>
            <a:xfrm>
              <a:off x="19080" y="-12600"/>
              <a:ext cx="929628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8440" y="0"/>
              <a:ext cx="9267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2133360" y="3142800"/>
            <a:ext cx="7010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YOU HAVE COMPLETED THE NAME THAT HOMOPHONE GAME! </a:t>
            </a:r>
            <a:br>
              <a:rPr sz="2500"/>
            </a:b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THANKS FOR PLAYING! I HOPE YOU LEARNED SOMETHING ALONG THE WAY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28600" y="914400"/>
            <a:ext cx="8991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5bd078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+mj-lt"/>
              </a:rPr>
              <a:t>Way To Go!!</a:t>
            </a:r>
            <a:endParaRPr b="1" lang="en-US" sz="4400" spc="1" strike="noStrike">
              <a:ln w="0">
                <a:noFill/>
              </a:ln>
              <a:solidFill>
                <a:srgbClr val="5bd078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+mj-lt"/>
              <a:ea typeface="+mj-lt"/>
            </a:endParaRPr>
          </a:p>
        </p:txBody>
      </p:sp>
      <p:pic>
        <p:nvPicPr>
          <p:cNvPr id="581" name="Picture 5" descr="School Teacher01"/>
          <p:cNvPicPr/>
          <p:nvPr/>
        </p:nvPicPr>
        <p:blipFill>
          <a:blip r:embed="rId2"/>
          <a:stretch/>
        </p:blipFill>
        <p:spPr>
          <a:xfrm>
            <a:off x="28440" y="3809880"/>
            <a:ext cx="1738440" cy="2971800"/>
          </a:xfrm>
          <a:prstGeom prst="rect">
            <a:avLst/>
          </a:prstGeom>
          <a:ln w="0">
            <a:noFill/>
          </a:ln>
        </p:spPr>
      </p:pic>
      <p:pic>
        <p:nvPicPr>
          <p:cNvPr id="582" name="04 - Track 4.wav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3" name="Way to go.wav" descr=""/>
          <p:cNvPicPr/>
          <p:nvPr/>
        </p:nvPicPr>
        <p:blipFill>
          <a:blip r:embed="rId4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6667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37465 C -0.07969 0.288 -0.0592 0.20158 -0.03021 0.17354 C -0.00121 0.14551 0.05955 0.18258 0.07396 0.20644 C 0.08837 0.23031 0.0809 0.32669 0.05608 0.31627 C 0.03125 0.30584 -0.07882 0.19463 -0.07535 0.14435 C -0.07187 0.09407 0.03177 0.02062 0.07674 0.0146 C 0.1217 0.00857 0.18212 0.07414 0.19445 0.10774 C 0.20677 0.14134 0.18316 0.23378 0.1507 0.21571 C 0.11823 0.19764 0.05903 0.0987 1.66667E-006 -1.68675E-006 E">
                                      <p:cBhvr>
                                        <p:cTn id="427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667"/>
                            </p:stCondLst>
                            <p:childTnLst>
                              <p:par>
                                <p:cTn id="4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15435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73e87"/>
                </a:solidFill>
                <a:uFillTx/>
                <a:latin typeface="Arial Black"/>
              </a:rPr>
              <a:t>SPRINGBOARD</a:t>
            </a:r>
            <a:br>
              <a:rPr sz="3800"/>
            </a:br>
            <a:r>
              <a:rPr b="1" i="1" lang="en-US" sz="3800" spc="-1" strike="noStrike">
                <a:solidFill>
                  <a:srgbClr val="073e87"/>
                </a:solidFill>
                <a:latin typeface="Arial Black"/>
              </a:rPr>
              <a:t> PAGES 90-92</a:t>
            </a:r>
            <a:endParaRPr b="0" lang="en-US" sz="38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2824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OGETHER: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Review &amp; Annotate Article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age 90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IN YOUR GROUP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: Questions 6-8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age 92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DISCUSSION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73e87"/>
                </a:solidFill>
                <a:uFillTx/>
                <a:latin typeface="Arial Black"/>
              </a:rPr>
              <a:t>EXIT TICKET</a:t>
            </a:r>
            <a:endParaRPr b="0" lang="en-US" sz="50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EXIT TICKET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Based off your reading of the article, does advertising have a positive or negative impact on children? Why?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Use </a:t>
            </a:r>
            <a:r>
              <a:rPr b="1" i="1" lang="en-US" sz="2700" spc="-1" strike="noStrike" u="sng">
                <a:solidFill>
                  <a:srgbClr val="c00000"/>
                </a:solidFill>
                <a:uFillTx/>
                <a:latin typeface="Arial"/>
              </a:rPr>
              <a:t>TEXTUAL EVIDENCE </a:t>
            </a:r>
            <a:r>
              <a:rPr b="1" i="1" lang="en-US" sz="2700" spc="-1" strike="noStrike">
                <a:solidFill>
                  <a:srgbClr val="c00000"/>
                </a:solidFill>
                <a:latin typeface="Arial"/>
              </a:rPr>
              <a:t>for support</a:t>
            </a:r>
            <a:br>
              <a:rPr sz="2500"/>
            </a:br>
            <a:r>
              <a:rPr b="1" i="1" lang="en-US" sz="25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500" spc="-1" strike="noStrike">
                <a:solidFill>
                  <a:srgbClr val="c00000"/>
                </a:solidFill>
                <a:latin typeface="Arial"/>
              </a:rPr>
              <a:t>**</a:t>
            </a:r>
            <a:r>
              <a:rPr b="1" i="1" lang="en-US" sz="2500" spc="-1" strike="noStrike" u="sng">
                <a:solidFill>
                  <a:srgbClr val="c00000"/>
                </a:solidFill>
                <a:uFillTx/>
                <a:latin typeface="Arial"/>
              </a:rPr>
              <a:t>EXIT TICKET:</a:t>
            </a:r>
            <a:r>
              <a:rPr b="1" i="1" lang="en-US" sz="2500" spc="-1" strike="noStrike">
                <a:solidFill>
                  <a:srgbClr val="c00000"/>
                </a:solidFill>
                <a:latin typeface="Arial"/>
              </a:rPr>
              <a:t>YOU CANNOT LEAVE CLASS UNTIL I APPROVE YOUR ANSWERS!*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73e87"/>
                </a:solidFill>
                <a:uFillTx/>
                <a:latin typeface="Arial Black"/>
              </a:rPr>
              <a:t>HOMEWORK</a:t>
            </a:r>
            <a:endParaRPr b="0" lang="en-US" sz="5500" spc="-1" strike="noStrike">
              <a:solidFill>
                <a:srgbClr val="073e87"/>
              </a:solidFill>
              <a:latin typeface="Arial Blac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320" y="17521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Chapter 11 o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upac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 Ques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514080">
              <a:spcBef>
                <a:spcPts val="1001"/>
              </a:spcBef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73e87"/>
                </a:solidFill>
                <a:uFillTx/>
                <a:latin typeface="Arial"/>
              </a:rPr>
              <a:t>DUE WEDNES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http://ecx.images-amazon.com/images/I/51KS7mQf4fL._SY344_BO1,204,203,200_.jpg"/>
          <p:cNvPicPr/>
          <p:nvPr/>
        </p:nvPicPr>
        <p:blipFill>
          <a:blip r:embed="rId1"/>
          <a:stretch/>
        </p:blipFill>
        <p:spPr>
          <a:xfrm>
            <a:off x="5943600" y="2590920"/>
            <a:ext cx="2666880" cy="397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hettle, Meghan</cp:lastModifiedBy>
  <cp:lastPrinted>2001-01-31T16:21:13Z</cp:lastPrinted>
  <dcterms:modified xsi:type="dcterms:W3CDTF">2014-11-17T18:24:09Z</dcterms:modified>
  <cp:revision>142</cp:revision>
  <dc:subject/>
  <dc:title>Name that Homophon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